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C5B-F7F8-4DB5-9FF2-66847D3D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A2E-F435-448C-87B7-4962E37D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7D6-D162-4E13-9EE7-709EDE02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A1D-E3BB-4D09-A76C-16581A26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606-9CE3-4C15-A70C-B5B136F0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CDD-793B-41CE-ACD9-1908F095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6BA-D4A0-44A8-B2CB-8AFDCA3B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26C-E1A7-4533-AB9E-46F9DC0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C0F-3DB7-4523-B06B-29B6F541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A67-3853-40B3-981F-45A3307B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51C-8E68-4364-8C7F-6122B3F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FE6-9447-4394-9392-E6293CA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ABAF-14B4-4109-AA0E-4DC086A7C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handler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419112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7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2895480"/>
            <a:ext cx="601992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latin typeface="Curlz M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latin typeface="Curlz MT"/>
              </a:rPr>
              <a:t>Barbi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66cc"/>
                  </a:gs>
                </a:gsLst>
                <a:path path="rect">
                  <a:fillToRect l="50000" t="50000" r="50000" b="50000"/>
                </a:path>
              </a:gradFill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latin typeface="Curlz MT"/>
              </a:rPr>
              <a:t>D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66cc"/>
                  </a:gs>
                </a:gsLst>
                <a:path path="rect">
                  <a:fillToRect l="50000" t="50000" r="50000" b="50000"/>
                </a:path>
              </a:gradFill>
              <a:latin typeface="Curlz MT"/>
              <a:ea typeface="Curlz MT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41008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g Top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AC"/>
          <p:cNvPicPr/>
          <p:nvPr/>
        </p:nvPicPr>
        <p:blipFill>
          <a:blip r:embed="rId1"/>
          <a:srcRect l="0" t="0" r="0" b="6672"/>
          <a:stretch/>
        </p:blipFill>
        <p:spPr>
          <a:xfrm>
            <a:off x="0" y="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10552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-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th Handle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10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handl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Handler"/>
          <p:cNvPicPr/>
          <p:nvPr/>
        </p:nvPicPr>
        <p:blipFill>
          <a:blip r:embed="rId3"/>
          <a:srcRect l="24567" t="0" r="0" b="9363"/>
          <a:stretch/>
        </p:blipFill>
        <p:spPr>
          <a:xfrm>
            <a:off x="2895480" y="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inventor of the Barbie Doll, Ruth Handler, who invented it in 19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rbie D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The doll was invented in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A doll from Germany, the “Lilli” doll was where Ruth Handler got the idea for the l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It was introduced at the American Toy Fair in New York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The doll had it’s first bendable legs in The year of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First year on the market, 351,00 dolls were sold at $3 each made Ruth Handler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0066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Han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Ruth got the idea from watching her daughter and her friends playing with paper or cardboard do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Thought she should show girls what they could be when they were 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Also, she invented Barbie’s boyfriend, Ken, and got the name from her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Her daughter’s name was Barbara and that’s where she got Barbie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Ruth also had breast cancer while going through all this hard work of making the dolls and she still di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37Z</dcterms:created>
  <dc:creator>install</dc:creator>
  <dc:description/>
  <dc:language>en-US</dc:language>
  <cp:lastModifiedBy>install</cp:lastModifiedBy>
  <dcterms:modified xsi:type="dcterms:W3CDTF">2010-05-12T13:14:21Z</dcterms:modified>
  <cp:revision>9</cp:revision>
  <dc:subject/>
  <dc:title>Slide 1</dc:title>
</cp:coreProperties>
</file>